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600F-456F-4846-9031-941D76D8D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123B-BC38-442F-846C-01798353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59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E4BA-C581-4223-A79E-52933DDBA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04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31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04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31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D5C4-7314-4FDA-9903-0755A3244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DCAA-B1FC-4A18-BDC1-230BA328B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43CA-951E-4C71-A9D0-E101E91D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0940-872B-4A58-9E53-3E785180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C1E3-B3F2-4196-AFD9-FA9B6FEC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C02D-FD06-4C09-BD1E-948AF742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6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BB1B-4C56-4F36-BDBA-60104302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57C3-7F50-4F0A-AEEB-ED66CD99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EA4B-40B0-47B0-AA91-4F8EC9FB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059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EBF8-AD81-4939-84C7-79EFADC0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EEA9-C2EC-43B7-9BC3-BDAF7F17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6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A1D0-6EF5-4145-8499-B78383B7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6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059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4632-318D-46E1-BB29-704869852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704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6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704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31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C053-8C2A-41AE-A2ED-B0349BEC4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DAE4-6FD8-4638-A74B-D8BE5487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115B-DFDF-4CCA-967D-4231B3B7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BFEB-AF92-4521-9987-AA5D0361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504C-63F9-48F9-B079-BF9F5CAA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7171-16B6-4D20-8981-D8900D3D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59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52B1-6486-4DCE-BA0A-82B2CDD8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59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1E8E-B065-4690-862E-EDE760F8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7821720" y="0"/>
              <a:ext cx="132084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609480"/>
              <a:ext cx="9142560" cy="114300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66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BA2C-B59A-4AD1-9F8E-AAAA8EECD82E}" type="slidenum"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45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pic>
            <p:nvPicPr>
              <p:cNvPr id="4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320840" cy="685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>
                <a:off x="0" y="1828800"/>
                <a:ext cx="9142560" cy="1905120"/>
              </a:xfrm>
              <a:prstGeom prst="rect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cc66"/>
                  </a:solidFill>
                  <a:latin typeface="Times New Roman"/>
                </a:endParaRPr>
              </a:p>
            </p:txBody>
          </p:sp>
        </p:grpSp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457200" y="1327320"/>
              <a:ext cx="1828800" cy="191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2320" y="1828800"/>
            <a:ext cx="6780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076C-9E68-40CF-AFBF-7ED4880DF00C}" type="slidenum"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eat Gatsb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three level reading introduction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81080" y="2743200"/>
            <a:ext cx="406404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husband, among various physical accomplishments . .”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pplied)</a:t>
            </a:r>
            <a:endParaRPr b="0" lang="en-US" sz="2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You can’t relive the past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Concentrate on yesterday and you’ll lose today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Selfish pursuits seldom deliver fulfillment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038480" y="2746440"/>
            <a:ext cx="381024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 laughed again, as if she said something very witty . .”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br>
              <a:rPr sz="10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inferences)</a:t>
            </a:r>
            <a:endParaRPr b="0" lang="en-US" sz="2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Daisy made people feel they were special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Daisy was vivacious, full of life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There was an aura of excitement, yet mystery and even sadness about Daisy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343400" y="2133720"/>
            <a:ext cx="3309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 laughed again, as if she said something very witty . . “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pplied)</a:t>
            </a:r>
            <a:endParaRPr b="0" lang="en-US" sz="2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038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Go out of your way to pay special attention to someone and they’ll never forget you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Some people are exciting to be with even when little is actually happening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31114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mportance of visualizing:</a:t>
            </a:r>
            <a:endParaRPr b="0" lang="en-US" sz="32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“ </a:t>
            </a: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We walked through a high hallway into a brightly colored space . .“  </a:t>
            </a:r>
            <a:r>
              <a:rPr b="0" lang="en-US" sz="1200" spc="-1" strike="noStrike">
                <a:solidFill>
                  <a:srgbClr val="cccccc"/>
                </a:solidFill>
                <a:latin typeface="Times New Roman"/>
              </a:rPr>
              <a:t>p. 8</a:t>
            </a:r>
            <a:endParaRPr b="0" lang="en-US" sz="1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25192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summation:</a:t>
            </a:r>
            <a:endParaRPr b="0" lang="en-US" sz="36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Read and appreciate F. Scott Fitzgerald’s use of language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Think on different levels (</a:t>
            </a:r>
            <a:r>
              <a:rPr b="0" i="1" lang="en-US" sz="2800" spc="-1" strike="noStrike">
                <a:solidFill>
                  <a:srgbClr val="cccccc"/>
                </a:solidFill>
                <a:latin typeface="Times New Roman"/>
              </a:rPr>
              <a:t>interact</a:t>
            </a: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Visualize (</a:t>
            </a:r>
            <a:r>
              <a:rPr b="0" i="1" lang="en-US" sz="2800" spc="-1" strike="noStrike">
                <a:solidFill>
                  <a:srgbClr val="cccccc"/>
                </a:solidFill>
                <a:latin typeface="Times New Roman"/>
              </a:rPr>
              <a:t>interact</a:t>
            </a: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Don’t just read, but </a:t>
            </a:r>
            <a:r>
              <a:rPr b="1" lang="en-US" sz="2800" spc="-1" strike="noStrike" u="sng">
                <a:solidFill>
                  <a:srgbClr val="cccccc"/>
                </a:solidFill>
                <a:uFillTx/>
                <a:latin typeface="Times New Roman"/>
              </a:rPr>
              <a:t>experience</a:t>
            </a: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 good literature!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. Scott Fitzgerald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38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His use of language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Your interpretation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A view of human nature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320" y="2832120"/>
            <a:ext cx="3809880" cy="2413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210440" y="196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vels of Reading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Literal:  What are the author’s words?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Inferential:  What is the meaning behind those words?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Applied:  How might this apply to me or to people in general?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180040" y="1981080"/>
            <a:ext cx="1525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y younger and more vulnerable years . . .”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Fitzgerald’s words)</a:t>
            </a:r>
            <a:endParaRPr b="0" lang="en-US" sz="2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A father’s advice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A son’s reserve to pass judgment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Unsought confidenc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483080" y="1981080"/>
            <a:ext cx="291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my younger and more vulnerable years . .”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interpretive)</a:t>
            </a:r>
            <a:endParaRPr b="0" lang="en-US" sz="28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The narrator was close with his father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People confided in the narrator because they felt safe from judgment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Few of the confidences were totally revealing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The narrator feels just a bit superior about his sensitivity towards others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my younger and more vulnerable years . . “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applied)</a:t>
            </a:r>
            <a:endParaRPr b="0" lang="en-US" sz="28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We are influenced by our parents more than we care to admit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People feel a great need to reveal their inner secrets (no matter how lame) to those they trust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Reserving judgment allows us to see others more clearly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There are “haves” and “have nots” in a variety of ways in this world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family have been prominent, well-to-do people . . “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br>
              <a:rPr sz="1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interpretive?)</a:t>
            </a:r>
            <a:endParaRPr b="0" lang="en-US" sz="2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The Carraways have enhanced their family history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05160" y="89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952880" y="2362320"/>
            <a:ext cx="22482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family have been prominent, well-to-do people . . “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pplied)</a:t>
            </a:r>
            <a:endParaRPr b="0" lang="en-US" sz="2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038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Families have been enhancing their bloodlines and pedigree (for the sake of status) throughout history. 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71520" y="1981080"/>
            <a:ext cx="3217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husband, among various physical accomplishments . .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inferences)</a:t>
            </a:r>
            <a:endParaRPr b="0" lang="en-US" sz="2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He was never able to recreate the glory of his college years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Even with all his money, Tom couldn’t find fulfillment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Tom is a very selfish person who hasn’t grown up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09880" y="3276720"/>
            <a:ext cx="381024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0:37:50Z</dcterms:created>
  <dc:creator>FCHS</dc:creator>
  <dc:description/>
  <dc:language>en-US</dc:language>
  <cp:lastModifiedBy>HS Teacher</cp:lastModifiedBy>
  <dcterms:modified xsi:type="dcterms:W3CDTF">2003-01-14T16:07:25Z</dcterms:modified>
  <cp:revision>19</cp:revision>
  <dc:subject/>
  <dc:title>The Great Gatsby: A three level reading introduction</dc:title>
</cp:coreProperties>
</file>